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848F-961D-4A02-903A-B4BCFAC5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8D1-D14F-495D-9622-3B19BE90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D93-305D-4F21-ACF8-8E40DC80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21F-8982-4561-9690-EA8D45D9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3D3F-1E81-4B9B-ADF8-C5340775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4D0-0335-40BF-AFC3-3ADC4C73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1D1E-0649-4C1A-81CD-2B28EF66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F132-6508-46D1-AF2B-310E3A16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46A0-5DE9-4060-AFF3-348B0AA1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2341-133D-4563-81F6-735E5564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57C-026A-4DD6-A044-D04AF35A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5363-CBDC-49E3-87B6-C62A2B34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C249-F783-42CD-84CD-1ECA37D9B3E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ps.cn/" TargetMode="External"/><Relationship Id="rId2" Type="http://schemas.openxmlformats.org/officeDocument/2006/relationships/hyperlink" Target="http://www.wps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990720" y="2147760"/>
            <a:ext cx="10644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文档是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的安全文档，仅可用支持安全文档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 PC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roid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iO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客户端打开，当前软件版本无法保证您在安全环境下查看和编辑文档。使用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文档可以轻松创建和管理受保护的文件，请到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WPS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官网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，或联系您的企业管理员获取最新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09:46:00Z</dcterms:created>
  <dc:creator/>
  <dc:description/>
  <dc:language>en-US</dc:language>
  <cp:lastModifiedBy>演示人</cp:lastModifiedBy>
  <dcterms:modified xsi:type="dcterms:W3CDTF">2017-03-10T02:36:25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22</vt:lpwstr>
  </property>
  <property fmtid="{D5CDD505-2E9C-101B-9397-08002B2CF9AE}" pid="3" name="_MarkAsFinal">
    <vt:bool>1</vt:bool>
  </property>
</Properties>
</file>